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0A0E-B8D5-4E89-8F96-A9A8D2483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C684-6829-49B4-A9D7-E2980A49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391F-5B4B-4199-BC95-18BA87333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9ADB-A5D1-4E6A-919B-CC6DE54CD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D3B9-D7C8-4050-A4AD-12F4301B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7D88-270E-435D-99A4-D002AD97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151D-C243-4DEC-AC0B-8A7FE6FB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D807-5330-4A4B-B51E-D034347E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BF1D-2042-40B4-BE00-0203C99F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E045-9CBC-44E3-A35C-565D233F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FFCE-41C3-446B-9DEC-2E431654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A6CF-85C7-477D-8200-3919122B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9C71-2A08-418D-BF6A-C3161C60F3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79280" y="0"/>
            <a:ext cx="9727920" cy="7075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00200" y="1447920"/>
            <a:ext cx="5562720" cy="25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esson7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t the Zo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20"/>
          <p:cNvSpPr txBox="1"/>
          <p:nvPr/>
        </p:nvSpPr>
        <p:spPr>
          <a:xfrm>
            <a:off x="152280" y="228600"/>
            <a:ext cx="4680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冀教版三年级英语下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992160" y="1066680"/>
            <a:ext cx="15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Unit 2</a:t>
            </a: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16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09680" y="53352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zo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41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pand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216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304920"/>
            <a:ext cx="4876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monk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9357" t="0" r="9357" b="0"/>
          <a:stretch/>
        </p:blipFill>
        <p:spPr>
          <a:xfrm>
            <a:off x="6016680" y="152280"/>
            <a:ext cx="3127320" cy="3619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rcRect l="5192" t="6667" r="5192" b="6667"/>
          <a:stretch/>
        </p:blipFill>
        <p:spPr>
          <a:xfrm>
            <a:off x="0" y="0"/>
            <a:ext cx="6211800" cy="4680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09480" y="3124080"/>
            <a:ext cx="221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bi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77120" y="3124080"/>
            <a:ext cx="243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sma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4648320"/>
            <a:ext cx="5867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The elephant is bi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The bird is smal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3012840" cy="3962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334120" y="304920"/>
            <a:ext cx="3308400" cy="2530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200400" y="20574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f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324480" y="2895480"/>
            <a:ext cx="281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th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09680" y="4267080"/>
            <a:ext cx="58676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The panda is fa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The monkey is thi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600200" y="1981080"/>
            <a:ext cx="5238720" cy="30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Activities</a:t>
            </a:r>
            <a:endParaRPr b="1" lang="en-US" sz="8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52280"/>
            <a:ext cx="891540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Blackboard Design(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板书设计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Lesson 7  At the zo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zoo   panda   monkey   elephant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big   sm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The elephant is bi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The bird is sma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The panda is fa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The monkey is th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5"/>
          <p:cNvSpPr txBox="1"/>
          <p:nvPr/>
        </p:nvSpPr>
        <p:spPr>
          <a:xfrm>
            <a:off x="1042920" y="765000"/>
            <a:ext cx="6810480" cy="46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Good-bye!</a:t>
            </a:r>
            <a:endParaRPr b="1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6-04-29T12:38:53Z</dcterms:modified>
  <cp:revision>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